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7EFC-B124-47AE-9AD1-FEE20F4FD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55B9-086A-48E6-9FED-D3EB946B3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6575-97FF-4E84-AB37-9FB797785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4E50-1AE2-44CF-878B-1D6EB812D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CD806-7EEA-42CD-83AA-4AFA8BB0C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cd5f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04F46-CC29-4575-B60A-57A241F96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999B8-4544-4A58-82F8-8C428D494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5BE6C-84D6-4488-8016-22080CFE4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09A62-61EB-468B-B752-D3D0BA7FB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cd5f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1DEBA-758F-434C-85A3-158C5516E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79029-FDFE-4386-ABE1-59A0C6CDE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cd5f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8D10-1A4A-40F5-A42A-2BBE55C70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3550B-7220-4DEF-BDDD-173ABFCA5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80F43-78FF-4EB0-89E1-208D0499D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9CC58-DB76-46C1-A4E7-ECB9AC261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47CF1-1E68-4D87-B69E-BC82DB095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981D4-895F-468A-B11C-791E0FC93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800F-92B1-4F52-9D4B-073DDBB8A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4728-BFAA-4B5E-A2B1-3DF0FCCD9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8AA0-F3D6-400F-819A-78E124DEA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cd5f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A9C6-5D0E-4F10-AC0C-BD9BFAEC4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E6E6-EA37-42F9-A0D5-2B7837A3E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657C-71D6-4020-AF37-3034BA92F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8DC5-8BDA-42EB-8825-6E42743D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cd5f4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cd5f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cd5f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d5f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cd5f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BA275-D2E3-460D-B579-877BB347C6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66688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F6644-7FAD-4CD9-B173-9ED94EA097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cd5f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9cd5f4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cd5f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d5f4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cd5f4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1676520"/>
            <a:ext cx="7772400" cy="1676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Judah Alone –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A Study of Zephaniah</a:t>
            </a:r>
            <a:endParaRPr b="1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95280" y="396216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cd5f4"/>
                </a:solidFill>
                <a:latin typeface="Arial"/>
              </a:rPr>
              <a:t>Quarter 7, Lesson 15</a:t>
            </a:r>
            <a:endParaRPr b="0" lang="en-US" sz="3200" spc="-1" strike="noStrike">
              <a:solidFill>
                <a:srgbClr val="9cd5f4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cd5f4"/>
                </a:solidFill>
                <a:latin typeface="Arial"/>
              </a:rPr>
              <a:t>Books of Zephaniah and Jeremiah</a:t>
            </a:r>
            <a:endParaRPr b="0" lang="en-US" sz="3200" spc="-1" strike="noStrike">
              <a:solidFill>
                <a:srgbClr val="9cd5f4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cd5f4"/>
                </a:solidFill>
                <a:latin typeface="Arial"/>
              </a:rPr>
              <a:t>Pages 138-141</a:t>
            </a:r>
            <a:endParaRPr b="0" lang="en-US" sz="3200" spc="-1" strike="noStrike">
              <a:solidFill>
                <a:srgbClr val="9cd5f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94B2A-6D9B-404B-9D4E-85B16E6EB304}" type="slidenum">
              <a:t>1</a:t>
            </a:fld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cd5f4"/>
                </a:solidFill>
                <a:latin typeface="Verdana"/>
              </a:rPr>
              <a:t>Conclusion</a:t>
            </a: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“near” judgment of Judah predicted by Zephaniah came very quick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godly king Josiah died in 609 B.C. and, just four years later, the army of Babylon invaded the 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God promised judgment (and it came), He promised a faithful remnant would retu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4940280"/>
            <a:ext cx="8153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Zeph. 3:20 (KJV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t that time will I bring you again, even in the time that I gather you: for I will make you a name and a praise among all people of the earth, when I turn back your captivity before your eyes, saith the Lor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E4F5-6EB3-48FD-8ECF-40FC65BCC4B6}" type="slidenum">
              <a:t>10</a:t>
            </a:fld>
          </a:p>
        </p:txBody>
      </p:sp>
    </p:spTree>
  </p:cSld>
  <p:transition>
    <p:wipe dir="r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2361960"/>
            <a:ext cx="7772400" cy="1981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Introduction to Jeremiah</a:t>
            </a:r>
            <a:endParaRPr b="1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04365-FA0F-4B79-B86A-D36E088EE2C8}" type="slidenum">
              <a:t>11</a:t>
            </a:fld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cd5f4"/>
                </a:solidFill>
                <a:latin typeface="Verdana"/>
              </a:rPr>
              <a:t>The Prophet Jeremiah</a:t>
            </a: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riest, son of Hilkiah; of the priestly city of Anathoth (a few miles north of Jerusale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gan prophesying during the 1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year of Josiah’s reign to the nation of Jud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emporary with Habakkuk and Zephani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prophesied about 40 years in Judah and spanned the reigns of five k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prophesied about 10 more years in Egypt to a rebellious remn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0E27-6B3D-4BD4-B50D-14C97B02F1B4}" type="slidenum">
              <a:t>12</a:t>
            </a:fld>
          </a:p>
        </p:txBody>
      </p:sp>
    </p:spTree>
  </p:cSld>
  <p:transition>
    <p:wipe dir="r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cd5f4"/>
                </a:solidFill>
                <a:latin typeface="Verdana"/>
              </a:rPr>
              <a:t>Jeremiah’s Mission</a:t>
            </a: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root out, to pull down, to destroy, to throw down, to build, to plant” (1:1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declare irreversible judgment against the nation of Judah and other n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remind them of their s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beg repentance - knowing most would n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prophesy that Babylon would war against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promise a return of the remnant and a new coven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2614-81AE-4343-939F-BDD89DC8EB3E}" type="slidenum">
              <a:t>13</a:t>
            </a:fld>
          </a:p>
        </p:txBody>
      </p:sp>
    </p:spTree>
  </p:cSld>
  <p:transition>
    <p:wipe dir="r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cd5f4"/>
                </a:solidFill>
                <a:latin typeface="Verdana"/>
              </a:rPr>
              <a:t>A Brief Interruption</a:t>
            </a: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interrupt our study of Josiah to study the words of a proph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prophets will be studied before we resume the acts of Josi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cd5f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ephaniah (Lesson 1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cd5f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remiah (Lesson 1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cd5f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hum (Lesson 17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will gain a better appreciation of the environment of the nation of Jud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AE2C-712F-4EDE-B188-59E6847230E1}" type="slidenum">
              <a:t>2</a:t>
            </a:fld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8001000" cy="14018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cd5f4"/>
                </a:solidFill>
                <a:latin typeface="Verdana"/>
              </a:rPr>
              <a:t>Prophets During The Single Kingdom</a:t>
            </a: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86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ph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at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essage t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u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hu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5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ineveh (Assyria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nasseh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– Josiah (?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ephania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4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da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sia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remia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26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da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siah - Zedekia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bakku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09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da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hoiak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FF8C-E5ED-42A4-90C8-B0408DDAAF87}" type="slidenum">
              <a:t>3</a:t>
            </a:fld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cd5f4"/>
                </a:solidFill>
                <a:latin typeface="Verdana"/>
              </a:rPr>
              <a:t>The Prophet Zephaniah</a:t>
            </a: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gan prophesying during Josiah’s reign to the nation of Jud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out a doubt, a good influence on Josi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ing Hezekiah (one of  the best kings) was Zephaniah’s great-great-grandfa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“royal” line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in (cousin) to the young king Josi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emporary with Habakkuk and Jeremi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65A8-6F0E-4B4A-BFE8-ECA17E31F531}" type="slidenum">
              <a:t>4</a:t>
            </a:fld>
          </a:p>
        </p:txBody>
      </p:sp>
    </p:spTree>
  </p:cSld>
  <p:transition>
    <p:wipe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cd5f4"/>
                </a:solidFill>
                <a:latin typeface="Verdana"/>
              </a:rPr>
              <a:t>Setting The Stage</a:t>
            </a: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ble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cd5f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asseh had ruled earlier for 55 ye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cd5f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ost wicked king in all of Judah’s his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cd5f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 wicked that the “nation” would never turn back to G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cd5f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on his son ruled for 2 years; just as evi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:  God pronounced an irreversible judgment on Jud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2 Kings 21:11-1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siah is now the 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09BA-B40D-4F41-A6AE-03DBFD39A3EC}" type="slidenum">
              <a:t>5</a:t>
            </a:fld>
          </a:p>
        </p:txBody>
      </p:sp>
    </p:spTree>
  </p:cSld>
  <p:transition>
    <p:wipe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cd5f4"/>
                </a:solidFill>
                <a:latin typeface="Verdana"/>
              </a:rPr>
              <a:t>Purpose of Zephaniah’s Mission</a:t>
            </a: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305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assist the godly king Josiah in his attempt to bring Judah back to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message wa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cd5f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was too late for the nation of Juda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cd5f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dgment was com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cd5f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individuals could still be saved from the coming ev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vival started within eight years after Josiah began his ru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3E05-1908-4777-9A7E-CBF7034615EA}" type="slidenum">
              <a:t>6</a:t>
            </a:fld>
          </a:p>
        </p:txBody>
      </p:sp>
    </p:spTree>
  </p:cSld>
  <p:transition>
    <p:wipe dir="r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7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2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cd5f4"/>
                </a:solidFill>
                <a:latin typeface="Verdana"/>
              </a:rPr>
              <a:t>Theme of the Book</a:t>
            </a: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305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ay of the Lord” – Zeph. 1:7, 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prophets, it always refers to a day of judg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tioned 13 times in the book in some form, i.e., “that day,” “the day,”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371600" y="2514600"/>
            <a:ext cx="7391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Zeph. 1:7 (KJV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old thy peace at the presence of the Lord God: for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the day of the Lord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is at hand: for the Lord hath prepared a sacrifice, he hath bid his guest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4343400"/>
            <a:ext cx="75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Zeph. 1:14 (KJV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The great day of the Lord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is near, it is near, and hasteth greatly, even the voice of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the day of the Lord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: the mighty man shall cry there bitterl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C8BA-F025-4F0E-B208-F7D84C776174}" type="slidenum">
              <a:t>7</a:t>
            </a:fld>
          </a:p>
        </p:txBody>
      </p:sp>
    </p:spTree>
  </p:cSld>
  <p:transition>
    <p:wipe dir="r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8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8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2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8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8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8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cd5f4"/>
                </a:solidFill>
                <a:latin typeface="Verdana"/>
              </a:rPr>
              <a:t>“</a:t>
            </a:r>
            <a:r>
              <a:rPr b="0" lang="en-US" sz="4000" spc="-1" strike="noStrike">
                <a:solidFill>
                  <a:srgbClr val="9cd5f4"/>
                </a:solidFill>
                <a:latin typeface="Verdana"/>
              </a:rPr>
              <a:t>the day of the Lord”</a:t>
            </a: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was then immin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time of terr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judgment for s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ompanied by great convulsions in na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uld fall upon all cre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a remnant would surv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CCBF-C711-4631-9DC0-688927228FC5}" type="slidenum">
              <a:t>8</a:t>
            </a:fld>
          </a:p>
        </p:txBody>
      </p:sp>
    </p:spTree>
  </p:cSld>
  <p:transition>
    <p:wipe dir="r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cd5f4"/>
                </a:solidFill>
                <a:latin typeface="Verdana"/>
              </a:rPr>
              <a:t>Outline of the Book</a:t>
            </a: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dgment on the whole world (1:1-3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dgment of the kingdom of Judah (1:4-18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hortation to repentance (2:1-3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dgment on certain other nations (2:4-1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dah’s sin and punishment (3:1-8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ture salvation and blessing (3:9-2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53AE-5721-4A9C-84C6-401D68FDF455}" type="slidenum">
              <a:t>9</a:t>
            </a:fld>
          </a:p>
        </p:txBody>
      </p:sp>
    </p:spTree>
  </p:cSld>
  <p:transition>
    <p:wipe dir="r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23:00:56Z</dcterms:created>
  <dc:creator>Frank D Vines</dc:creator>
  <dc:description/>
  <dc:language>en-US</dc:language>
  <cp:lastModifiedBy>Frank D Vines</cp:lastModifiedBy>
  <dcterms:modified xsi:type="dcterms:W3CDTF">2006-03-01T23:12:23Z</dcterms:modified>
  <cp:revision>40</cp:revision>
  <dc:subject/>
  <dc:title>The Book of Hose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51033</vt:lpwstr>
  </property>
</Properties>
</file>